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856-528C-4BBD-A57D-07C898AB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347-DF31-41B9-A158-0BB4908B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A41-040C-403E-A2B7-792DC273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2D9-3BE1-4D34-B30E-E7BB01BE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B6B4-BC53-4537-9FCE-814A2892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96C0-8289-4A81-9F86-92AE18B4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1AC8-292C-4A6F-B6F4-914057A8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6A13-B45B-4D98-A1C3-18CB7083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36F9-D61B-4767-9FC3-6E85F5CF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EC87-4685-434E-9244-D0DD8460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268E-707F-46B7-BC60-E9291E12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763-1878-441E-B86A-C6FD78F1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C459-B365-4D5B-B87B-955AD422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EB21-1327-4B7E-91D7-06341894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B3CC-006C-40F0-8EF7-7E43F583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7679-7E30-415A-BBDB-F11078EE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C7E1-5669-48FE-8C59-E7A0D4E2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C6B-E621-4219-95CA-BD37DF06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B8B-D667-470C-9882-07D5C9C3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08E-6F5C-4B31-8FCB-B3C7934F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3D30-7EDB-4A50-A11A-0A30EA99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74FC-95B0-4314-8DBF-D270BC86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19E-BFF9-4AFC-B693-EB2FFDE3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2EF-B008-41CF-B5C8-A9858339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EB57-F463-4EC3-9680-C1D46B66067F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9AB2-FEA6-4CDB-AFB0-E884B9781E82}" type="slidenum">
              <a:rPr b="1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  <a:ea typeface="宋体"/>
              </a:rPr>
              <a:t>THANKSGIVING FALL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0560" y="91440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宋体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ITLE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56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animfactory_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>
            <a:hlinkClick r:id="rId3"/>
          </p:cNvPr>
          <p:cNvSpPr/>
          <p:nvPr/>
        </p:nvSpPr>
        <p:spPr>
          <a:xfrm>
            <a:off x="668520" y="700200"/>
            <a:ext cx="108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freeppt7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8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9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0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13" descr="thanksgiving_fall_qx"/>
          <p:cNvPicPr/>
          <p:nvPr/>
        </p:nvPicPr>
        <p:blipFill>
          <a:blip r:embed="rId4"/>
          <a:stretch/>
        </p:blipFill>
        <p:spPr>
          <a:xfrm>
            <a:off x="2494080" y="914400"/>
            <a:ext cx="154440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9" name="Picture 214" descr="thanksgiving_fall_sld"/>
          <p:cNvPicPr/>
          <p:nvPr/>
        </p:nvPicPr>
        <p:blipFill>
          <a:blip r:embed="rId5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0" name="Picture 215" descr="thanksgiving_fall_prt"/>
          <p:cNvPicPr/>
          <p:nvPr/>
        </p:nvPicPr>
        <p:blipFill>
          <a:blip r:embed="rId6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1" name="Picture 216" descr="thanksgiving_fall_trs"/>
          <p:cNvPicPr/>
          <p:nvPr/>
        </p:nvPicPr>
        <p:blipFill>
          <a:blip r:embed="rId7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logo"/>
          <p:cNvPicPr/>
          <p:nvPr/>
        </p:nvPicPr>
        <p:blipFill>
          <a:blip r:embed="rId1"/>
          <a:stretch/>
        </p:blipFill>
        <p:spPr>
          <a:xfrm>
            <a:off x="1998720" y="1084320"/>
            <a:ext cx="5627520" cy="1297080"/>
          </a:xfrm>
          <a:prstGeom prst="rect">
            <a:avLst/>
          </a:prstGeom>
          <a:ln w="0">
            <a:noFill/>
          </a:ln>
        </p:spPr>
      </p:pic>
      <p:grpSp>
        <p:nvGrpSpPr>
          <p:cNvPr id="103" name="组合 6"/>
          <p:cNvGrpSpPr/>
          <p:nvPr/>
        </p:nvGrpSpPr>
        <p:grpSpPr>
          <a:xfrm>
            <a:off x="0" y="2682720"/>
            <a:ext cx="9144000" cy="3321360"/>
            <a:chOff x="0" y="2682720"/>
            <a:chExt cx="9144000" cy="3321360"/>
          </a:xfrm>
        </p:grpSpPr>
        <p:sp>
          <p:nvSpPr>
            <p:cNvPr id="104" name="Rectangle 17"/>
            <p:cNvSpPr/>
            <p:nvPr/>
          </p:nvSpPr>
          <p:spPr>
            <a:xfrm>
              <a:off x="0" y="2682720"/>
              <a:ext cx="9144000" cy="332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"/>
            <p:cNvSpPr/>
            <p:nvPr/>
          </p:nvSpPr>
          <p:spPr>
            <a:xfrm>
              <a:off x="285480" y="2820960"/>
              <a:ext cx="8596800" cy="14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an be used in the following sit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Unlimited number of commercial demonstrations for your personal/company, busines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py the contents of the template for use in other slide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ster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251280" y="4393440"/>
              <a:ext cx="87667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an not be used in the following sit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Used for any form of online payment download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5b8cc1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fter collecting the free resources we released, we will burn the discs for sal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10" descr="png-0644"/>
            <p:cNvPicPr/>
            <p:nvPr/>
          </p:nvPicPr>
          <p:blipFill>
            <a:blip r:embed="rId2"/>
            <a:stretch/>
          </p:blipFill>
          <p:spPr>
            <a:xfrm>
              <a:off x="5396040" y="2820960"/>
              <a:ext cx="39348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11" descr="png-0652"/>
            <p:cNvPicPr/>
            <p:nvPr/>
          </p:nvPicPr>
          <p:blipFill>
            <a:blip r:embed="rId3"/>
            <a:stretch/>
          </p:blipFill>
          <p:spPr>
            <a:xfrm>
              <a:off x="5862240" y="4470840"/>
              <a:ext cx="393480" cy="29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6:44:39Z</dcterms:created>
  <dc:creator>微软中国</dc:creator>
  <dc:description/>
  <dc:language>en-US</dc:language>
  <cp:lastModifiedBy>kwl6163com</cp:lastModifiedBy>
  <dcterms:modified xsi:type="dcterms:W3CDTF">2018-05-11T00:16:47Z</dcterms:modified>
  <cp:revision>6</cp:revision>
  <dc:subject/>
  <dc:title>THANKSGIVING F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