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CCC-7FDA-4778-9646-AC082A2C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B94-D659-460A-8254-C4F3F565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88E-2080-41F1-880D-CCD489B1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59C-058A-446D-B60D-190AE523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525-670E-43DF-A8FB-E1F318CB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CD5-1F67-4C90-B128-EFDE61F9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6C7-E18F-4C0D-B504-1CCC06B1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5E2-BB00-438A-9223-E7EDCDF0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063-AD68-4847-A7C1-E0312A55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D4D-7D85-4578-9606-617DA003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1A8-1693-46C5-9328-D894E85D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7D2-87DA-4243-BE7C-BC28E1DD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AC15-F266-47A8-8EEB-C0F5369DF0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jieri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内容占位符 4" descr=""/>
          <p:cNvPicPr/>
          <p:nvPr/>
        </p:nvPicPr>
        <p:blipFill>
          <a:blip r:embed="rId1"/>
          <a:stretch/>
        </p:blipFill>
        <p:spPr>
          <a:xfrm>
            <a:off x="-44280" y="0"/>
            <a:ext cx="918828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8" descr="1.png"/>
          <p:cNvPicPr/>
          <p:nvPr/>
        </p:nvPicPr>
        <p:blipFill>
          <a:blip r:embed="rId1"/>
          <a:srcRect l="18705" t="7777" r="19908" b="12344"/>
          <a:stretch/>
        </p:blipFill>
        <p:spPr>
          <a:xfrm>
            <a:off x="1692360" y="614520"/>
            <a:ext cx="5613480" cy="54784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2.png"/>
          <p:cNvPicPr/>
          <p:nvPr/>
        </p:nvPicPr>
        <p:blipFill>
          <a:blip r:embed="rId2"/>
          <a:srcRect l="26668" t="17035" r="27129" b="21110"/>
          <a:stretch/>
        </p:blipFill>
        <p:spPr>
          <a:xfrm>
            <a:off x="2411280" y="1197000"/>
            <a:ext cx="4224600" cy="4241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text"/>
          <p:cNvPicPr/>
          <p:nvPr/>
        </p:nvPicPr>
        <p:blipFill>
          <a:blip r:embed="rId3"/>
          <a:stretch/>
        </p:blipFill>
        <p:spPr>
          <a:xfrm>
            <a:off x="3397320" y="2284560"/>
            <a:ext cx="23256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12" dur="20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3"/>
          <p:cNvSpPr/>
          <p:nvPr/>
        </p:nvSpPr>
        <p:spPr>
          <a:xfrm>
            <a:off x="2998080" y="3259080"/>
            <a:ext cx="31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jieri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内容占位符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内容占位符 3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logo"/>
          <p:cNvPicPr/>
          <p:nvPr/>
        </p:nvPicPr>
        <p:blipFill>
          <a:blip r:embed="rId1"/>
          <a:stretch/>
        </p:blipFill>
        <p:spPr>
          <a:xfrm>
            <a:off x="2460600" y="1130400"/>
            <a:ext cx="4680000" cy="107784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6"/>
          <p:cNvGrpSpPr/>
          <p:nvPr/>
        </p:nvGrpSpPr>
        <p:grpSpPr>
          <a:xfrm>
            <a:off x="0" y="3543480"/>
            <a:ext cx="9144000" cy="3321000"/>
            <a:chOff x="0" y="3543480"/>
            <a:chExt cx="9144000" cy="3321000"/>
          </a:xfrm>
        </p:grpSpPr>
        <p:sp>
          <p:nvSpPr>
            <p:cNvPr id="53" name="Rectangle 17"/>
            <p:cNvSpPr/>
            <p:nvPr/>
          </p:nvSpPr>
          <p:spPr>
            <a:xfrm>
              <a:off x="0" y="3543480"/>
              <a:ext cx="9144000" cy="332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"/>
            <p:cNvSpPr/>
            <p:nvPr/>
          </p:nvSpPr>
          <p:spPr>
            <a:xfrm>
              <a:off x="285480" y="3681720"/>
              <a:ext cx="8596800" cy="14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an be used in the following sit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Unlimited number of commercial demonstrations for your personal/company, busines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py the contents of the template for use in other slide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ster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4"/>
            <p:cNvSpPr/>
            <p:nvPr/>
          </p:nvSpPr>
          <p:spPr>
            <a:xfrm>
              <a:off x="251280" y="5254200"/>
              <a:ext cx="876672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an not be used in the following sit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Used for any form of online payment downloa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fter collecting the free resources we released, we will burn the discs for sal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10" descr="png-0644"/>
            <p:cNvPicPr/>
            <p:nvPr/>
          </p:nvPicPr>
          <p:blipFill>
            <a:blip r:embed="rId2"/>
            <a:stretch/>
          </p:blipFill>
          <p:spPr>
            <a:xfrm>
              <a:off x="5396040" y="3681720"/>
              <a:ext cx="39348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1" descr="png-0652"/>
            <p:cNvPicPr/>
            <p:nvPr/>
          </p:nvPicPr>
          <p:blipFill>
            <a:blip r:embed="rId3"/>
            <a:stretch/>
          </p:blipFill>
          <p:spPr>
            <a:xfrm>
              <a:off x="5862240" y="5331600"/>
              <a:ext cx="393480" cy="29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6:48:23Z</dcterms:created>
  <dc:creator>Ryan</dc:creator>
  <dc:description/>
  <dc:language>en-US</dc:language>
  <cp:lastModifiedBy>kwl6163com</cp:lastModifiedBy>
  <dcterms:modified xsi:type="dcterms:W3CDTF">2018-05-13T13:10:03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