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D4B-DACB-4912-B90B-E2CA74BF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AF7-0FF5-499D-BA3F-511F0789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1BB-2717-420C-B572-4D280E1A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FB4-7FC7-4E3F-BF74-6B4A0EC8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EE1A-FE06-44BA-B07D-048439E6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6E93-DD9F-442D-9CBA-F4D439C7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6D94-82BB-4460-8DB9-9F93225A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C3BE-80FC-4FD5-AB30-D8AD3078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9E0C-5E16-485B-8879-E23169D9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105B-C78D-4901-9C73-00A7215B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A641-BC04-4159-A8E3-FE6392B5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D9D-B75E-4493-BCB8-5EE40AEA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F887-AD18-4992-8E23-EE9C5459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5850-BC97-4DC5-83E8-49272FC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9AB5-5462-42D8-A93B-A22A8662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F16D-4C19-4F95-BB2F-30CDC2B2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6B30-C4BD-48CD-A399-962AC6BF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CE9C-FDCA-4A1D-A2CE-2D244C89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D425-2C76-47C5-8F8A-9F0B1984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387D-CD05-4A72-BFA3-7D795F26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5C04-5C34-471C-B1A7-267B83B7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D639-CA1D-4ADD-A44E-E9D4B9F2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463-18C7-462C-88C0-A012720F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2986-D9AC-481B-A187-B520BB6B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BFAA-75E7-465F-8CDF-FCBE43E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AE1E-5D2B-41B8-90C3-44AA8EC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082A-AAF1-4B1C-9DB2-65091437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F4E9-77C2-4587-9B94-E7C94D08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67B1-D8FF-45FB-A24D-8656EF6F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57CF-B97E-413B-9164-10818C1A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F65-9F0A-4B40-A36B-E3C1792B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F12-C2F9-427E-9CCB-192362A0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52B-2462-44E9-943E-DE41A29D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E3D-158B-4189-A2E2-405E5920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1DC-6F7A-44B5-9381-CFDC24C6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E46-F98B-4BE1-87F3-35E59B10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0FB6-6BA2-41CE-B8BB-E4F0A9C503E4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7" descr="마스터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7" descr="마스터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E783-7D83-4D0B-972C-07E3D9DF7CC0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그림 7" descr="마스터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84B0-C69F-4489-80BA-74DCC3AC7921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7" descr="마스터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直接连接符 8"/>
          <p:cNvSpPr/>
          <p:nvPr/>
        </p:nvSpPr>
        <p:spPr>
          <a:xfrm>
            <a:off x="328680" y="806400"/>
            <a:ext cx="1366920" cy="0"/>
          </a:xfrm>
          <a:prstGeom prst="line">
            <a:avLst/>
          </a:prstGeom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矩形 5" descr=""/>
          <p:cNvPicPr/>
          <p:nvPr/>
        </p:nvPicPr>
        <p:blipFill>
          <a:blip r:embed="rId1"/>
          <a:stretch/>
        </p:blipFill>
        <p:spPr>
          <a:xfrm>
            <a:off x="1322280" y="1658880"/>
            <a:ext cx="7015320" cy="768240"/>
          </a:xfrm>
          <a:prstGeom prst="rect">
            <a:avLst/>
          </a:prstGeom>
          <a:ln w="0">
            <a:noFill/>
          </a:ln>
        </p:spPr>
      </p:pic>
      <p:sp>
        <p:nvSpPr>
          <p:cNvPr id="169" name="矩形 7"/>
          <p:cNvSpPr/>
          <p:nvPr/>
        </p:nvSpPr>
        <p:spPr>
          <a:xfrm>
            <a:off x="1807560" y="2576520"/>
            <a:ext cx="552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est PPT templates-www.freeppt7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矩形 9"/>
          <p:cNvSpPr/>
          <p:nvPr/>
        </p:nvSpPr>
        <p:spPr>
          <a:xfrm>
            <a:off x="4403880" y="587700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직사각형 12"/>
          <p:cNvSpPr/>
          <p:nvPr/>
        </p:nvSpPr>
        <p:spPr>
          <a:xfrm>
            <a:off x="3681360" y="3200400"/>
            <a:ext cx="4786200" cy="428760"/>
          </a:xfrm>
          <a:prstGeom prst="rect">
            <a:avLst/>
          </a:prstGeom>
          <a:gradFill rotWithShape="0">
            <a:gsLst>
              <a:gs pos="0">
                <a:srgbClr val="bfbfbf">
                  <a:alpha val="0"/>
                </a:srgbClr>
              </a:gs>
              <a:gs pos="100000">
                <a:srgbClr val="f2f2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직사각형 13"/>
          <p:cNvSpPr/>
          <p:nvPr/>
        </p:nvSpPr>
        <p:spPr>
          <a:xfrm>
            <a:off x="3681360" y="3914640"/>
            <a:ext cx="4786200" cy="428760"/>
          </a:xfrm>
          <a:prstGeom prst="rect">
            <a:avLst/>
          </a:prstGeom>
          <a:gradFill rotWithShape="0">
            <a:gsLst>
              <a:gs pos="0">
                <a:srgbClr val="93cddd">
                  <a:alpha val="0"/>
                </a:srgbClr>
              </a:gs>
              <a:gs pos="100000">
                <a:srgbClr val="dbee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직사각형 15"/>
          <p:cNvSpPr/>
          <p:nvPr/>
        </p:nvSpPr>
        <p:spPr>
          <a:xfrm>
            <a:off x="3681360" y="5369040"/>
            <a:ext cx="4786200" cy="428400"/>
          </a:xfrm>
          <a:prstGeom prst="rect">
            <a:avLst/>
          </a:prstGeom>
          <a:gradFill rotWithShape="0">
            <a:gsLst>
              <a:gs pos="0">
                <a:srgbClr val="93cddd">
                  <a:alpha val="0"/>
                </a:srgbClr>
              </a:gs>
              <a:gs pos="100000">
                <a:srgbClr val="dbee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74" name="Picture 4" descr="C:\Documents and Settings\oo\바탕 화면\스윗파포\템플릿 작업\PNG 제작\블루아쿠아.png"/>
          <p:cNvPicPr/>
          <p:nvPr/>
        </p:nvPicPr>
        <p:blipFill>
          <a:blip r:embed="rId1"/>
          <a:stretch/>
        </p:blipFill>
        <p:spPr>
          <a:xfrm>
            <a:off x="3214800" y="3057480"/>
            <a:ext cx="720720" cy="733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Documents and Settings\oo\바탕 화면\스윗파포\템플릿 작업\PNG 제작\그레이.png"/>
          <p:cNvPicPr/>
          <p:nvPr/>
        </p:nvPicPr>
        <p:blipFill>
          <a:blip r:embed="rId2"/>
          <a:stretch/>
        </p:blipFill>
        <p:spPr>
          <a:xfrm>
            <a:off x="3214800" y="3794040"/>
            <a:ext cx="720720" cy="73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:\Documents and Settings\oo\바탕 화면\스윗파포\템플릿 작업\PNG 제작\그레이.png"/>
          <p:cNvPicPr/>
          <p:nvPr/>
        </p:nvPicPr>
        <p:blipFill>
          <a:blip r:embed="rId3"/>
          <a:stretch/>
        </p:blipFill>
        <p:spPr>
          <a:xfrm>
            <a:off x="3228840" y="5265720"/>
            <a:ext cx="720720" cy="735120"/>
          </a:xfrm>
          <a:prstGeom prst="rect">
            <a:avLst/>
          </a:prstGeom>
          <a:ln w="0">
            <a:noFill/>
          </a:ln>
        </p:spPr>
      </p:pic>
      <p:sp>
        <p:nvSpPr>
          <p:cNvPr id="177" name="직사각형 16"/>
          <p:cNvSpPr/>
          <p:nvPr/>
        </p:nvSpPr>
        <p:spPr>
          <a:xfrm>
            <a:off x="3286080" y="3143160"/>
            <a:ext cx="571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Malgun Gothic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직사각형 17"/>
          <p:cNvSpPr/>
          <p:nvPr/>
        </p:nvSpPr>
        <p:spPr>
          <a:xfrm>
            <a:off x="3286080" y="3857760"/>
            <a:ext cx="571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Malgun Gothic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직사각형 19"/>
          <p:cNvSpPr/>
          <p:nvPr/>
        </p:nvSpPr>
        <p:spPr>
          <a:xfrm>
            <a:off x="3308400" y="531972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Malgun Gothic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직사각형 20"/>
          <p:cNvSpPr/>
          <p:nvPr/>
        </p:nvSpPr>
        <p:spPr>
          <a:xfrm>
            <a:off x="3714840" y="4646520"/>
            <a:ext cx="4786200" cy="428760"/>
          </a:xfrm>
          <a:prstGeom prst="rect">
            <a:avLst/>
          </a:prstGeom>
          <a:gradFill rotWithShape="0">
            <a:gsLst>
              <a:gs pos="0">
                <a:srgbClr val="bfbfbf">
                  <a:alpha val="0"/>
                </a:srgbClr>
              </a:gs>
              <a:gs pos="100000">
                <a:srgbClr val="f2f2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81" name="Picture 4" descr="C:\Documents and Settings\oo\바탕 화면\스윗파포\템플릿 작업\PNG 제작\블루아쿠아.png"/>
          <p:cNvPicPr/>
          <p:nvPr/>
        </p:nvPicPr>
        <p:blipFill>
          <a:blip r:embed="rId4"/>
          <a:stretch/>
        </p:blipFill>
        <p:spPr>
          <a:xfrm>
            <a:off x="3228840" y="4529160"/>
            <a:ext cx="720720" cy="735120"/>
          </a:xfrm>
          <a:prstGeom prst="rect">
            <a:avLst/>
          </a:prstGeom>
          <a:ln w="0">
            <a:noFill/>
          </a:ln>
        </p:spPr>
      </p:pic>
      <p:sp>
        <p:nvSpPr>
          <p:cNvPr id="182" name="직사각형 18"/>
          <p:cNvSpPr/>
          <p:nvPr/>
        </p:nvSpPr>
        <p:spPr>
          <a:xfrm>
            <a:off x="3297240" y="460548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Malgun Gothic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C:\Documents and Settings\oo\Local Settings\Temporary Internet Files\Content.IE5\GLEJ0D2V\MCj04380390000[1].png"/>
          <p:cNvPicPr/>
          <p:nvPr/>
        </p:nvPicPr>
        <p:blipFill>
          <a:blip r:embed="rId1"/>
          <a:stretch/>
        </p:blipFill>
        <p:spPr>
          <a:xfrm rot="2899200">
            <a:off x="8271720" y="94320"/>
            <a:ext cx="758520" cy="760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C:\Documents and Settings\oo\Local Settings\Temporary Internet Files\Content.IE5\WHUBGLEZ\MCj04380400000[1].png"/>
          <p:cNvPicPr/>
          <p:nvPr/>
        </p:nvPicPr>
        <p:blipFill>
          <a:blip r:embed="rId2"/>
          <a:stretch/>
        </p:blipFill>
        <p:spPr>
          <a:xfrm>
            <a:off x="6951600" y="85680"/>
            <a:ext cx="1109880" cy="1109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C:\Documents and Settings\oo\Local Settings\Temporary Internet Files\Content.IE5\YDCNULA5\MCj04380410000[1].png"/>
          <p:cNvPicPr/>
          <p:nvPr/>
        </p:nvPicPr>
        <p:blipFill>
          <a:blip r:embed="rId3"/>
          <a:stretch/>
        </p:blipFill>
        <p:spPr>
          <a:xfrm rot="19570800">
            <a:off x="8089920" y="915480"/>
            <a:ext cx="704880" cy="789120"/>
          </a:xfrm>
          <a:prstGeom prst="rect">
            <a:avLst/>
          </a:prstGeom>
          <a:ln w="0">
            <a:noFill/>
          </a:ln>
        </p:spPr>
      </p:pic>
      <p:pic>
        <p:nvPicPr>
          <p:cNvPr id="186" name="직사각형 9" descr=""/>
          <p:cNvPicPr/>
          <p:nvPr/>
        </p:nvPicPr>
        <p:blipFill>
          <a:blip r:embed="rId4"/>
          <a:stretch/>
        </p:blipFill>
        <p:spPr>
          <a:xfrm>
            <a:off x="71280" y="357120"/>
            <a:ext cx="31435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직사각형 8" descr=""/>
          <p:cNvPicPr/>
          <p:nvPr/>
        </p:nvPicPr>
        <p:blipFill>
          <a:blip r:embed="rId1"/>
          <a:stretch/>
        </p:blipFill>
        <p:spPr>
          <a:xfrm>
            <a:off x="714240" y="3429000"/>
            <a:ext cx="7666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" descr="logo"/>
          <p:cNvPicPr/>
          <p:nvPr/>
        </p:nvPicPr>
        <p:blipFill>
          <a:blip r:embed="rId1"/>
          <a:stretch/>
        </p:blipFill>
        <p:spPr>
          <a:xfrm>
            <a:off x="2460600" y="1130400"/>
            <a:ext cx="4680000" cy="107784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合 6"/>
          <p:cNvGrpSpPr/>
          <p:nvPr/>
        </p:nvGrpSpPr>
        <p:grpSpPr>
          <a:xfrm>
            <a:off x="0" y="3544920"/>
            <a:ext cx="9144000" cy="3321000"/>
            <a:chOff x="0" y="3544920"/>
            <a:chExt cx="9144000" cy="3321000"/>
          </a:xfrm>
        </p:grpSpPr>
        <p:sp>
          <p:nvSpPr>
            <p:cNvPr id="190" name="Rectangle 17"/>
            <p:cNvSpPr/>
            <p:nvPr/>
          </p:nvSpPr>
          <p:spPr>
            <a:xfrm>
              <a:off x="0" y="3544920"/>
              <a:ext cx="9144000" cy="3321000"/>
            </a:xfrm>
            <a:prstGeom prst="rect">
              <a:avLst/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" name="Rectangle 3"/>
            <p:cNvSpPr/>
            <p:nvPr/>
          </p:nvSpPr>
          <p:spPr>
            <a:xfrm>
              <a:off x="285480" y="3683160"/>
              <a:ext cx="8596800" cy="14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nlimited number of commercial demonstrations for your personal/company, business.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py the contents of the template for use in other slide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sters.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251280" y="5255640"/>
              <a:ext cx="876672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not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sed for any form of online payment download.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fter collecting the free resources we released, we will burn the discs for sale.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93" name="Picture 10" descr="png-0644"/>
            <p:cNvPicPr/>
            <p:nvPr/>
          </p:nvPicPr>
          <p:blipFill>
            <a:blip r:embed="rId2"/>
            <a:stretch/>
          </p:blipFill>
          <p:spPr>
            <a:xfrm>
              <a:off x="5396040" y="3683160"/>
              <a:ext cx="393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1" descr="png-0652"/>
            <p:cNvPicPr/>
            <p:nvPr/>
          </p:nvPicPr>
          <p:blipFill>
            <a:blip r:embed="rId3"/>
            <a:stretch/>
          </p:blipFill>
          <p:spPr>
            <a:xfrm>
              <a:off x="5862240" y="5333040"/>
              <a:ext cx="393480" cy="29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2:10:20Z</dcterms:created>
  <dc:creator/>
  <dc:description/>
  <dc:language>en-US</dc:language>
  <cp:lastModifiedBy>kwl6163com</cp:lastModifiedBy>
  <dcterms:modified xsi:type="dcterms:W3CDTF">2018-05-16T13:20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