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C1F2-0A96-4B83-8266-5DCE656A3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DCFD-2CAD-47B5-8700-EFCDB0EB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503C-EE2F-45E6-BEA9-16016870A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5F26-4D3A-44D0-88B2-8B16DFB79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86D9-CCAC-4D61-8C5F-9CAD46D87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3A91-8F92-4CC7-8F6E-F9FAB1EE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F31A-BB74-4E08-98D9-3D654769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DC5C-EF80-483B-AC97-165D99AC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D4AD-4C7C-4B0F-AD90-43DB205E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E7F8-5D18-4F23-950D-4E48C833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B67F-DA40-4406-827C-C0827141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3C3E-6A3A-4702-8391-45481FAF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4A50-8337-47CE-91B7-B784E005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48CE-7FB3-4A47-AAAB-4E87603C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B83C-0687-4635-B5FF-B080DC18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1F8C-2577-47F5-B445-E0286F37D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08C9-1D4A-4D09-B44E-CEC10800C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FC062-2707-45A4-A3AB-65A91ACB7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C8DBD-EF21-459F-AF99-A6818957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6E276-74DD-4A1C-ADCD-5FC67E85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6B44D-4FEA-450B-8072-F0569666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0DD95-71A0-4CCC-85F0-A80C59B7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A9CE-9085-416E-B2DA-5A4698CE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18467-56F1-4278-99D8-7F875413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6F788-D893-4342-B360-AFF5892D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2B089-0FF7-4613-809D-BD2BA63B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16BB4-2BCB-4BD3-A068-3EB795D9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3C297-ECF0-430A-894F-236A0A79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929A8-C027-4DCB-8AF4-EC579D336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3BB18-1C49-4896-9219-FB8CFFBAA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C75AD-27C7-4EF1-9A62-A272FD755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8AD61-E64D-40F2-A24B-35799E24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3167A-CD56-4E23-8F73-195FC38C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4809-0C17-4385-81DF-85A5F70A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0105E-72DA-4B27-9FAA-C86B193D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8E8F8-D491-4138-B561-C09EE404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EC862-1417-4281-944C-889140CE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57ADF-BD8E-44AC-A299-9791CD83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DBC44-9558-446C-BF5E-E3F63D1F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00C04-24EA-46F4-BB1C-ACBAA3DE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E028F-5433-47A0-B5E9-835B9049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63169-2879-41BD-B22C-53C46A573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5F476-3633-40CD-9EED-8359EB901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CEB4C-1521-4538-9AFC-7F58752E8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7DCB-6558-4014-9E04-AF4A2154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B6DC5-9178-4B8C-A77B-B4F444E2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74569-64C6-4F19-AAB1-ACC75047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DB400-039A-43FE-B197-35353A71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D055A-BEB7-437C-89A2-37C3B3EF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5F1FC-3CE6-490E-934B-B2D78955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CCA2D-35AF-4A6C-A47A-442DD279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6A8C9-F435-4382-B0C0-D1C28846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F872B-FB9B-4A82-A24F-85F3E611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7F020-6B21-475A-BF85-00817DDE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DFF11-22A0-400D-868B-D493A4BCB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1490-DDA7-49E0-9F71-7555BB65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4BC33-DAB9-4490-8B1A-67166B1E6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B26AC-8260-4F6A-AF04-EE13F1E28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1F1B1-7619-4F3E-8E08-8CC74AA7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399E1-272C-49E2-AF62-69FA3C6B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2BFC1-AB83-4E6E-B0A3-853A7278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41EE0-7D00-4665-A9D1-F781D28B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5A4A7-0D74-462C-ADDE-A4D322EE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B4B59-5E4C-4E04-9099-45CB5D2B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DCE45-8B44-45E9-8B59-53546DEB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F793F-392F-402C-9031-9F9E4F4B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04CB-4B83-4F24-990E-A4462B98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7A952-5AA5-4E5A-88F7-B81992D2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F6BF4-61F9-46FF-8450-E92690EE1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E19DC-324D-4B87-880F-4426F6D9B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ED32-BC15-4ACE-B75D-50171365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8096-13E7-480F-B4EA-61D40E33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1ppt.com/moban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C4D6-7835-46FF-BE5E-8574A289F68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ev300-096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9236-566F-4032-A053-6C4C89E04A0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6"/>
          <p:cNvSpPr/>
          <p:nvPr/>
        </p:nvSpPr>
        <p:spPr>
          <a:xfrm>
            <a:off x="2945520" y="240192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图片 6" descr="949522_143908547111_2.jpg"/>
          <p:cNvPicPr/>
          <p:nvPr/>
        </p:nvPicPr>
        <p:blipFill>
          <a:blip r:embed="rId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9097-BC00-4DE4-9184-F32DF2A9AC2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6" descr=""/>
          <p:cNvPicPr/>
          <p:nvPr/>
        </p:nvPicPr>
        <p:blipFill>
          <a:blip r:embed="rId2"/>
          <a:srcRect l="0" t="6362" r="0" b="0"/>
          <a:stretch/>
        </p:blipFill>
        <p:spPr>
          <a:xfrm>
            <a:off x="0" y="0"/>
            <a:ext cx="9144000" cy="51498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FF8A-9731-45E4-8428-85762459ECC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6" descr="Untitled-1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8796-457B-4E98-A9C7-C3DCFF8622A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20F8-E59A-4CC1-81FC-E47248EF6DF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F487-B519-441A-AD23-CC8F4929EA6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2828520" y="221292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微软雅黑"/>
              </a:rPr>
              <a:t>ON THE WA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直接连接符 4"/>
          <p:cNvSpPr/>
          <p:nvPr/>
        </p:nvSpPr>
        <p:spPr>
          <a:xfrm>
            <a:off x="684360" y="2819520"/>
            <a:ext cx="7488000" cy="14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1022400" y="2913120"/>
            <a:ext cx="46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微软雅黑"/>
              </a:rPr>
              <a:t>NEVER SAY NEV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7236000" y="2978280"/>
            <a:ext cx="1444320" cy="680760"/>
          </a:xfrm>
          <a:prstGeom prst="rect">
            <a:avLst/>
          </a:prstGeom>
          <a:ln w="0">
            <a:noFill/>
          </a:ln>
        </p:spPr>
      </p:pic>
      <p:sp>
        <p:nvSpPr>
          <p:cNvPr id="255" name="等腰三角形 11"/>
          <p:cNvSpPr/>
          <p:nvPr/>
        </p:nvSpPr>
        <p:spPr>
          <a:xfrm rot="10800000">
            <a:off x="7816680" y="2924280"/>
            <a:ext cx="355680" cy="108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文本框 2" descr=""/>
          <p:cNvPicPr/>
          <p:nvPr/>
        </p:nvPicPr>
        <p:blipFill>
          <a:blip r:embed="rId2"/>
          <a:stretch/>
        </p:blipFill>
        <p:spPr>
          <a:xfrm>
            <a:off x="353880" y="1468440"/>
            <a:ext cx="297504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Box 1"/>
          <p:cNvSpPr/>
          <p:nvPr/>
        </p:nvSpPr>
        <p:spPr>
          <a:xfrm>
            <a:off x="1771560" y="733320"/>
            <a:ext cx="290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  <a:ea typeface="微软雅黑"/>
              </a:rPr>
              <a:t>CONTENT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直接连接符 2"/>
          <p:cNvSpPr/>
          <p:nvPr/>
        </p:nvSpPr>
        <p:spPr>
          <a:xfrm>
            <a:off x="306360" y="1521000"/>
            <a:ext cx="4265640" cy="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等腰三角形 3"/>
          <p:cNvSpPr/>
          <p:nvPr/>
        </p:nvSpPr>
        <p:spPr>
          <a:xfrm rot="10800000">
            <a:off x="4271760" y="1628640"/>
            <a:ext cx="355320" cy="108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矩形 6"/>
          <p:cNvSpPr/>
          <p:nvPr/>
        </p:nvSpPr>
        <p:spPr>
          <a:xfrm>
            <a:off x="3279600" y="1924200"/>
            <a:ext cx="323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3849840" y="4500720"/>
            <a:ext cx="1444320" cy="682560"/>
          </a:xfrm>
          <a:prstGeom prst="rect">
            <a:avLst/>
          </a:prstGeom>
          <a:ln w="0">
            <a:noFill/>
          </a:ln>
        </p:spPr>
      </p:pic>
      <p:pic>
        <p:nvPicPr>
          <p:cNvPr id="262" name="文本框 5" descr=""/>
          <p:cNvPicPr/>
          <p:nvPr/>
        </p:nvPicPr>
        <p:blipFill>
          <a:blip r:embed="rId2"/>
          <a:stretch/>
        </p:blipFill>
        <p:spPr>
          <a:xfrm>
            <a:off x="87480" y="522360"/>
            <a:ext cx="1992240" cy="110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图片 2" descr=""/>
          <p:cNvPicPr/>
          <p:nvPr/>
        </p:nvPicPr>
        <p:blipFill>
          <a:blip r:embed="rId1"/>
          <a:stretch/>
        </p:blipFill>
        <p:spPr>
          <a:xfrm>
            <a:off x="0" y="1465200"/>
            <a:ext cx="11915640" cy="3678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7639200" y="298440"/>
            <a:ext cx="1442880" cy="682560"/>
          </a:xfrm>
          <a:prstGeom prst="rect">
            <a:avLst/>
          </a:prstGeom>
          <a:ln w="0">
            <a:noFill/>
          </a:ln>
        </p:spPr>
      </p:pic>
      <p:sp>
        <p:nvSpPr>
          <p:cNvPr id="265" name="TextBox 2"/>
          <p:cNvSpPr/>
          <p:nvPr/>
        </p:nvSpPr>
        <p:spPr>
          <a:xfrm>
            <a:off x="-36360" y="2409840"/>
            <a:ext cx="4464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BOUT P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等腰三角形 5"/>
          <p:cNvSpPr/>
          <p:nvPr/>
        </p:nvSpPr>
        <p:spPr>
          <a:xfrm rot="5400000">
            <a:off x="55080" y="3564000"/>
            <a:ext cx="355680" cy="108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矩形 7"/>
          <p:cNvSpPr/>
          <p:nvPr/>
        </p:nvSpPr>
        <p:spPr>
          <a:xfrm>
            <a:off x="395280" y="3068640"/>
            <a:ext cx="3168720" cy="223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  <a:ea typeface="宋体"/>
              </a:rPr>
              <a:t>201X PP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斜纹 13"/>
          <p:cNvSpPr/>
          <p:nvPr/>
        </p:nvSpPr>
        <p:spPr>
          <a:xfrm flipH="1">
            <a:off x="6442920" y="0"/>
            <a:ext cx="2700360" cy="1851120"/>
          </a:xfrm>
          <a:custGeom>
            <a:avLst/>
            <a:gdLst/>
            <a:ahLst/>
            <a:rect l="l" t="t" r="r" b="b"/>
            <a:pathLst>
              <a:path w="2700337" h="1851025">
                <a:moveTo>
                  <a:pt x="0" y="707350"/>
                </a:moveTo>
                <a:lnTo>
                  <a:pt x="1031906" y="0"/>
                </a:lnTo>
                <a:lnTo>
                  <a:pt x="2700337" y="0"/>
                </a:lnTo>
                <a:lnTo>
                  <a:pt x="0" y="1851025"/>
                </a:lnTo>
                <a:close/>
              </a:path>
            </a:pathLst>
          </a:cu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标题 1"/>
          <p:cNvSpPr/>
          <p:nvPr/>
        </p:nvSpPr>
        <p:spPr>
          <a:xfrm>
            <a:off x="0" y="411120"/>
            <a:ext cx="5724360" cy="57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微软雅黑"/>
                <a:ea typeface="微软雅黑"/>
              </a:rPr>
              <a:t>ADD YOUR TEXT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右箭头 24"/>
          <p:cNvSpPr/>
          <p:nvPr/>
        </p:nvSpPr>
        <p:spPr>
          <a:xfrm>
            <a:off x="826920" y="1347840"/>
            <a:ext cx="1944720" cy="1655640"/>
          </a:xfrm>
          <a:prstGeom prst="rightArrow">
            <a:avLst>
              <a:gd name="adj1" fmla="val 63565"/>
              <a:gd name="adj2" fmla="val 50002"/>
            </a:avLst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右箭头 25"/>
          <p:cNvSpPr/>
          <p:nvPr/>
        </p:nvSpPr>
        <p:spPr>
          <a:xfrm>
            <a:off x="3348000" y="1347840"/>
            <a:ext cx="2160720" cy="1655640"/>
          </a:xfrm>
          <a:prstGeom prst="rightArrow">
            <a:avLst>
              <a:gd name="adj1" fmla="val 63565"/>
              <a:gd name="adj2" fmla="val 50003"/>
            </a:avLst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右箭头 26"/>
          <p:cNvSpPr/>
          <p:nvPr/>
        </p:nvSpPr>
        <p:spPr>
          <a:xfrm>
            <a:off x="5940360" y="1347840"/>
            <a:ext cx="2087640" cy="1655640"/>
          </a:xfrm>
          <a:prstGeom prst="rightArrow">
            <a:avLst>
              <a:gd name="adj1" fmla="val 63565"/>
              <a:gd name="adj2" fmla="val 50005"/>
            </a:avLst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右箭头 27"/>
          <p:cNvSpPr/>
          <p:nvPr/>
        </p:nvSpPr>
        <p:spPr>
          <a:xfrm rot="5400000">
            <a:off x="4068000" y="1347480"/>
            <a:ext cx="719280" cy="4319640"/>
          </a:xfrm>
          <a:prstGeom prst="rightArrow">
            <a:avLst>
              <a:gd name="adj1" fmla="val 40194"/>
              <a:gd name="adj2" fmla="val 50000"/>
            </a:avLst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5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611280" y="1725480"/>
            <a:ext cx="2089080" cy="79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 Box 24"/>
          <p:cNvSpPr/>
          <p:nvPr/>
        </p:nvSpPr>
        <p:spPr>
          <a:xfrm>
            <a:off x="3132000" y="1725480"/>
            <a:ext cx="2087640" cy="79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 Box 24"/>
          <p:cNvSpPr/>
          <p:nvPr/>
        </p:nvSpPr>
        <p:spPr>
          <a:xfrm>
            <a:off x="5759280" y="1700280"/>
            <a:ext cx="2089440" cy="79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Box 15"/>
          <p:cNvSpPr/>
          <p:nvPr/>
        </p:nvSpPr>
        <p:spPr>
          <a:xfrm>
            <a:off x="2496240" y="4011480"/>
            <a:ext cx="375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YOUR TEXT HE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 rot="2250600">
            <a:off x="7354800" y="365040"/>
            <a:ext cx="1719360" cy="8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斜纹 23"/>
          <p:cNvSpPr/>
          <p:nvPr/>
        </p:nvSpPr>
        <p:spPr>
          <a:xfrm flipH="1">
            <a:off x="6442920" y="0"/>
            <a:ext cx="2700360" cy="1851120"/>
          </a:xfrm>
          <a:custGeom>
            <a:avLst/>
            <a:gdLst/>
            <a:ahLst/>
            <a:rect l="l" t="t" r="r" b="b"/>
            <a:pathLst>
              <a:path w="2700337" h="1851025">
                <a:moveTo>
                  <a:pt x="0" y="707350"/>
                </a:moveTo>
                <a:lnTo>
                  <a:pt x="1031906" y="0"/>
                </a:lnTo>
                <a:lnTo>
                  <a:pt x="2700337" y="0"/>
                </a:lnTo>
                <a:lnTo>
                  <a:pt x="0" y="1851025"/>
                </a:lnTo>
                <a:close/>
              </a:path>
            </a:pathLst>
          </a:cu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标题 1"/>
          <p:cNvSpPr/>
          <p:nvPr/>
        </p:nvSpPr>
        <p:spPr>
          <a:xfrm>
            <a:off x="0" y="411120"/>
            <a:ext cx="5724360" cy="57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微软雅黑"/>
                <a:ea typeface="微软雅黑"/>
              </a:rPr>
              <a:t>ADD YOUR TEXT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 rot="2250600">
            <a:off x="7354800" y="365040"/>
            <a:ext cx="1719360" cy="811440"/>
          </a:xfrm>
          <a:prstGeom prst="rect">
            <a:avLst/>
          </a:prstGeom>
          <a:ln w="0">
            <a:noFill/>
          </a:ln>
        </p:spPr>
      </p:pic>
      <p:sp>
        <p:nvSpPr>
          <p:cNvPr id="282" name="对角圆角矩形 25"/>
          <p:cNvSpPr/>
          <p:nvPr/>
        </p:nvSpPr>
        <p:spPr>
          <a:xfrm>
            <a:off x="849240" y="1833480"/>
            <a:ext cx="2305080" cy="25192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215968"/>
                </a:solidFill>
                <a:latin typeface="Calibri"/>
                <a:ea typeface="宋体"/>
              </a:rPr>
              <a:t>15</a:t>
            </a:r>
            <a:r>
              <a:rPr b="1" lang="en-US" sz="3200" spc="-1" strike="noStrike">
                <a:solidFill>
                  <a:srgbClr val="215968"/>
                </a:solidFill>
                <a:latin typeface="Calibri"/>
                <a:ea typeface="宋体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5968"/>
                </a:solidFill>
                <a:latin typeface="微软雅黑"/>
                <a:ea typeface="微软雅黑"/>
              </a:rPr>
              <a:t>ADD YOUR TEXT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5968"/>
                </a:solidFill>
                <a:latin typeface="微软雅黑"/>
                <a:ea typeface="微软雅黑"/>
              </a:rPr>
              <a:t>ADD YOUR TEXT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对角圆角矩形 26"/>
          <p:cNvSpPr/>
          <p:nvPr/>
        </p:nvSpPr>
        <p:spPr>
          <a:xfrm>
            <a:off x="3306600" y="1833480"/>
            <a:ext cx="2303640" cy="2519280"/>
          </a:xfrm>
          <a:prstGeom prst="pie">
            <a:avLst/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alibri"/>
                <a:ea typeface="宋体"/>
              </a:rPr>
              <a:t>55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对角圆角矩形 27"/>
          <p:cNvSpPr/>
          <p:nvPr/>
        </p:nvSpPr>
        <p:spPr>
          <a:xfrm>
            <a:off x="5889600" y="1833480"/>
            <a:ext cx="2305080" cy="251928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alibri"/>
                <a:ea typeface="宋体"/>
              </a:rPr>
              <a:t>35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斜纹 1"/>
          <p:cNvSpPr/>
          <p:nvPr/>
        </p:nvSpPr>
        <p:spPr>
          <a:xfrm flipH="1">
            <a:off x="6442920" y="0"/>
            <a:ext cx="2700360" cy="1851120"/>
          </a:xfrm>
          <a:custGeom>
            <a:avLst/>
            <a:gdLst/>
            <a:ahLst/>
            <a:rect l="l" t="t" r="r" b="b"/>
            <a:pathLst>
              <a:path w="2700337" h="1851025">
                <a:moveTo>
                  <a:pt x="0" y="707350"/>
                </a:moveTo>
                <a:lnTo>
                  <a:pt x="1031906" y="0"/>
                </a:lnTo>
                <a:lnTo>
                  <a:pt x="2700337" y="0"/>
                </a:lnTo>
                <a:lnTo>
                  <a:pt x="0" y="1851025"/>
                </a:lnTo>
                <a:close/>
              </a:path>
            </a:pathLst>
          </a:cu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标题 1"/>
          <p:cNvSpPr/>
          <p:nvPr/>
        </p:nvSpPr>
        <p:spPr>
          <a:xfrm>
            <a:off x="0" y="411120"/>
            <a:ext cx="5724360" cy="57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微软雅黑"/>
                <a:ea typeface="微软雅黑"/>
              </a:rPr>
              <a:t>ADD YOUR TEXT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 rot="2250600">
            <a:off x="7354800" y="365040"/>
            <a:ext cx="1719360" cy="811440"/>
          </a:xfrm>
          <a:prstGeom prst="rect">
            <a:avLst/>
          </a:prstGeom>
          <a:ln w="0">
            <a:noFill/>
          </a:ln>
        </p:spPr>
      </p:pic>
      <p:pic>
        <p:nvPicPr>
          <p:cNvPr id="288" name="图片 4" descr=""/>
          <p:cNvPicPr/>
          <p:nvPr/>
        </p:nvPicPr>
        <p:blipFill>
          <a:blip r:embed="rId2"/>
          <a:stretch/>
        </p:blipFill>
        <p:spPr>
          <a:xfrm>
            <a:off x="1332000" y="1738440"/>
            <a:ext cx="2665440" cy="1749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89" name="图片 5" descr=""/>
          <p:cNvPicPr/>
          <p:nvPr/>
        </p:nvPicPr>
        <p:blipFill>
          <a:blip r:embed="rId3"/>
          <a:stretch/>
        </p:blipFill>
        <p:spPr>
          <a:xfrm>
            <a:off x="4545000" y="1779480"/>
            <a:ext cx="2787840" cy="1751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90" name="组合 6" descr=""/>
          <p:cNvPicPr/>
          <p:nvPr/>
        </p:nvPicPr>
        <p:blipFill>
          <a:blip r:embed="rId4"/>
          <a:stretch/>
        </p:blipFill>
        <p:spPr>
          <a:xfrm>
            <a:off x="1077840" y="3498840"/>
            <a:ext cx="3430800" cy="1082520"/>
          </a:xfrm>
          <a:prstGeom prst="rect">
            <a:avLst/>
          </a:prstGeom>
          <a:ln w="0">
            <a:noFill/>
          </a:ln>
        </p:spPr>
      </p:pic>
      <p:pic>
        <p:nvPicPr>
          <p:cNvPr id="291" name="组合 9" descr=""/>
          <p:cNvPicPr/>
          <p:nvPr/>
        </p:nvPicPr>
        <p:blipFill>
          <a:blip r:embed="rId5"/>
          <a:stretch/>
        </p:blipFill>
        <p:spPr>
          <a:xfrm>
            <a:off x="4317840" y="3489480"/>
            <a:ext cx="383076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Box 1"/>
          <p:cNvSpPr/>
          <p:nvPr/>
        </p:nvSpPr>
        <p:spPr>
          <a:xfrm>
            <a:off x="2828520" y="221292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微软雅黑"/>
              </a:rPr>
              <a:t>ON THE WA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直接连接符 2"/>
          <p:cNvSpPr/>
          <p:nvPr/>
        </p:nvSpPr>
        <p:spPr>
          <a:xfrm>
            <a:off x="684360" y="2819520"/>
            <a:ext cx="7488000" cy="14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Box 4"/>
          <p:cNvSpPr/>
          <p:nvPr/>
        </p:nvSpPr>
        <p:spPr>
          <a:xfrm>
            <a:off x="816480" y="2951280"/>
            <a:ext cx="320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微软雅黑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7236000" y="2978280"/>
            <a:ext cx="1444320" cy="680760"/>
          </a:xfrm>
          <a:prstGeom prst="rect">
            <a:avLst/>
          </a:prstGeom>
          <a:ln w="0">
            <a:noFill/>
          </a:ln>
        </p:spPr>
      </p:pic>
      <p:sp>
        <p:nvSpPr>
          <p:cNvPr id="296" name="等腰三角形 6"/>
          <p:cNvSpPr/>
          <p:nvPr/>
        </p:nvSpPr>
        <p:spPr>
          <a:xfrm rot="10800000">
            <a:off x="7816680" y="2924280"/>
            <a:ext cx="355680" cy="108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7"/>
          <p:cNvSpPr/>
          <p:nvPr/>
        </p:nvSpPr>
        <p:spPr>
          <a:xfrm>
            <a:off x="684360" y="3659040"/>
            <a:ext cx="3168360" cy="223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  <a:ea typeface="宋体"/>
              </a:rPr>
              <a:t>201X BY PANGXIAOKU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文本框 3" descr=""/>
          <p:cNvPicPr/>
          <p:nvPr/>
        </p:nvPicPr>
        <p:blipFill>
          <a:blip r:embed="rId2"/>
          <a:stretch/>
        </p:blipFill>
        <p:spPr>
          <a:xfrm>
            <a:off x="569880" y="1611360"/>
            <a:ext cx="2975040" cy="14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任意多边形 2"/>
          <p:cNvSpPr/>
          <p:nvPr/>
        </p:nvSpPr>
        <p:spPr>
          <a:xfrm>
            <a:off x="1681200" y="2855880"/>
            <a:ext cx="447480" cy="492120"/>
          </a:xfrm>
          <a:custGeom>
            <a:avLst/>
            <a:gdLst/>
            <a:ahLst/>
            <a:rect l="l" t="t" r="r" b="b"/>
            <a:pathLst>
              <a:path w="576448" h="576263">
                <a:moveTo>
                  <a:pt x="0" y="0"/>
                </a:moveTo>
                <a:lnTo>
                  <a:pt x="575933" y="576263"/>
                </a:lnTo>
                <a:cubicBezTo>
                  <a:pt x="577576" y="384175"/>
                  <a:pt x="574620" y="192088"/>
                  <a:pt x="57626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194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矩形 3"/>
          <p:cNvSpPr/>
          <p:nvPr/>
        </p:nvSpPr>
        <p:spPr>
          <a:xfrm>
            <a:off x="2124000" y="2857680"/>
            <a:ext cx="7020000" cy="493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000" rIns="135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s://www.freeppt7.co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矩形 6"/>
          <p:cNvSpPr/>
          <p:nvPr/>
        </p:nvSpPr>
        <p:spPr>
          <a:xfrm>
            <a:off x="0" y="2282760"/>
            <a:ext cx="6985080" cy="5810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est PPT templates for free down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直角三角形 5"/>
          <p:cNvSpPr/>
          <p:nvPr/>
        </p:nvSpPr>
        <p:spPr>
          <a:xfrm>
            <a:off x="6983280" y="2279520"/>
            <a:ext cx="641520" cy="584280"/>
          </a:xfrm>
          <a:prstGeom prst="rtTriangle">
            <a:avLst/>
          </a:prstGeom>
          <a:solidFill>
            <a:srgbClr val="007c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矩形 11"/>
          <p:cNvSpPr/>
          <p:nvPr/>
        </p:nvSpPr>
        <p:spPr>
          <a:xfrm>
            <a:off x="1982880" y="2940120"/>
            <a:ext cx="51782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图片 4" descr="logo"/>
          <p:cNvPicPr/>
          <p:nvPr/>
        </p:nvPicPr>
        <p:blipFill>
          <a:blip r:embed="rId1"/>
          <a:stretch/>
        </p:blipFill>
        <p:spPr>
          <a:xfrm>
            <a:off x="2490840" y="633240"/>
            <a:ext cx="416232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9:19:46Z</dcterms:created>
  <dc:creator>Administrator</dc:creator>
  <dc:description/>
  <dc:language>en-US</dc:language>
  <cp:lastModifiedBy>kwl6163com</cp:lastModifiedBy>
  <dcterms:modified xsi:type="dcterms:W3CDTF">2018-05-21T02:30:43Z</dcterms:modified>
  <cp:revision>3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346</vt:lpwstr>
  </property>
</Properties>
</file>