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0C5-D4B8-4ADE-8ABB-069C9275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F24-C1A6-40EA-B30B-25A60D0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E0D-8F0F-4107-8E11-8510C200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9D3-780A-4436-A0D6-2F95C0D4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56E-4B8D-4046-8B20-2B94423B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9A1-491F-4D5F-89A5-FD2F5222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0EE-D90B-450C-9B0D-59927A57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859-AC69-4BCF-BEE0-5A46A030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B2FA-D80C-4587-8146-880D9D7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7626-E873-4039-B354-8A301B62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5CA-669A-4BEE-9FCD-7427F01E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4C67-DB2B-4694-80CB-874A805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B462-7518-4F20-B747-4CE60ACB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245-E5F2-48AB-A57B-068B903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D9D-0171-4047-9C5E-0ADD0D4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804F-5EE1-4198-A0D0-0E4EAA7E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B1A8-B37D-4BFC-9C91-B000F8C5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D66-7DBC-4919-B7A6-4A1DE1E2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578-C22A-4EFE-B5C4-572C49A6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13B-6248-4474-91C6-ACC4F69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420-BA2C-45EC-A5AE-CD5F3EE2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771-66AD-44D1-BF5B-B98D387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258-AA89-4129-855A-8BC69265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CDE-1282-4A95-B846-23FC7DB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http://office.msn.com.cn/Template/Home.shtml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6E7-985C-41EA-998C-A921B335ED25}" type="slidenum"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NeueLT Pro 77 BdCn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HelveticaNeueLT Pro 77 BdC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343080" indent="342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685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3" marL="10288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685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6858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6858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87BC-2098-4DD9-ABE8-07367C6B704F}" type="slidenum">
              <a:rPr b="1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tumblr_ndyg3pYbKW1tubinno1_1280.jpg"/>
          <p:cNvPicPr/>
          <p:nvPr/>
        </p:nvPicPr>
        <p:blipFill>
          <a:blip r:embed="rId2"/>
          <a:srcRect l="0" t="0" r="0" b="14218"/>
          <a:stretch/>
        </p:blipFill>
        <p:spPr>
          <a:xfrm>
            <a:off x="0" y="-52560"/>
            <a:ext cx="9144000" cy="692964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-3240" y="-38160"/>
            <a:ext cx="9147240" cy="6896160"/>
          </a:xfrm>
          <a:prstGeom prst="rect">
            <a:avLst/>
          </a:prstGeom>
          <a:solidFill>
            <a:srgbClr val="091a2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5"/>
          <p:cNvSpPr/>
          <p:nvPr/>
        </p:nvSpPr>
        <p:spPr>
          <a:xfrm>
            <a:off x="3114720" y="0"/>
            <a:ext cx="6029280" cy="6858000"/>
          </a:xfrm>
          <a:prstGeom prst="rect">
            <a:avLst/>
          </a:prstGeom>
          <a:solidFill>
            <a:srgbClr val="091a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6"/>
          <p:cNvSpPr/>
          <p:nvPr/>
        </p:nvSpPr>
        <p:spPr>
          <a:xfrm>
            <a:off x="328680" y="806400"/>
            <a:ext cx="13669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6" descr=""/>
          <p:cNvPicPr/>
          <p:nvPr/>
        </p:nvPicPr>
        <p:blipFill>
          <a:blip r:embed="rId2"/>
          <a:srcRect l="0" t="7412" r="0" b="7884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3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5"/>
          <p:cNvSpPr/>
          <p:nvPr/>
        </p:nvSpPr>
        <p:spPr>
          <a:xfrm>
            <a:off x="402120" y="7603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标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6"/>
          <p:cNvSpPr/>
          <p:nvPr/>
        </p:nvSpPr>
        <p:spPr>
          <a:xfrm>
            <a:off x="2143080" y="841320"/>
            <a:ext cx="100188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字体使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行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背景图片出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声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7"/>
          <p:cNvSpPr/>
          <p:nvPr/>
        </p:nvSpPr>
        <p:spPr>
          <a:xfrm>
            <a:off x="3295800" y="841320"/>
            <a:ext cx="304776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英文 </a:t>
            </a:r>
            <a:r>
              <a:rPr b="0" lang="en-US" sz="1000" spc="-1" strike="noStrike">
                <a:solidFill>
                  <a:srgbClr val="ffffff"/>
                </a:solidFill>
                <a:latin typeface="Segoe UI Light"/>
              </a:rPr>
              <a:t>Century Gothic  HelveticaNeueLT Pro 67 Md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中文 微软雅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正文 </a:t>
            </a:r>
            <a:r>
              <a:rPr b="0" lang="en-US" sz="1000" spc="-1" strike="noStrike">
                <a:solidFill>
                  <a:srgbClr val="ffffff"/>
                </a:solidFill>
                <a:latin typeface="Segoe UI Light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egoe UI Light"/>
              </a:rPr>
              <a:t>cn.b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互联网是一个开放共享的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Offic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LUS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部分设计灵感与元素来源于网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如有建议请联系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officeplus@microsof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8"/>
          <p:cNvSpPr/>
          <p:nvPr/>
        </p:nvSpPr>
        <p:spPr>
          <a:xfrm>
            <a:off x="301680" y="182520"/>
            <a:ext cx="70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UI Light"/>
              </a:rPr>
              <a:t>OfficeP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14800" y="2521080"/>
            <a:ext cx="2382840" cy="419040"/>
          </a:xfrm>
          <a:prstGeom prst="rect">
            <a:avLst/>
          </a:prstGeom>
          <a:ln w="0">
            <a:noFill/>
          </a:ln>
        </p:spPr>
      </p:pic>
      <p:sp>
        <p:nvSpPr>
          <p:cNvPr id="274" name="文本框 6"/>
          <p:cNvSpPr/>
          <p:nvPr/>
        </p:nvSpPr>
        <p:spPr>
          <a:xfrm>
            <a:off x="3580200" y="3740040"/>
            <a:ext cx="17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04040"/>
                </a:solidFill>
                <a:latin typeface="Arial"/>
                <a:ea typeface="微软雅黑"/>
              </a:rPr>
              <a:t>点击</a:t>
            </a:r>
            <a:r>
              <a:rPr b="0" lang="en-US" sz="1000" spc="-1" strike="noStrike">
                <a:solidFill>
                  <a:srgbClr val="404040"/>
                </a:solidFill>
                <a:latin typeface="Arial"/>
              </a:rPr>
              <a:t>Logo</a:t>
            </a:r>
            <a:r>
              <a:rPr b="0" lang="zh-CN" sz="1000" spc="-1" strike="noStrike">
                <a:solidFill>
                  <a:srgbClr val="404040"/>
                </a:solidFill>
                <a:latin typeface="Arial"/>
                <a:ea typeface="微软雅黑"/>
              </a:rPr>
              <a:t>获取更多优质模板（放映模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74400" y="38318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超世纪细隶书"/>
                <a:ea typeface="超世纪细隶书"/>
              </a:rPr>
              <a:t>Air Force theme PPT templat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Impact"/>
                <a:ea typeface="PMingLiU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8377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PMingLiU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PMingLiU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任意多边形 2"/>
          <p:cNvSpPr/>
          <p:nvPr/>
        </p:nvSpPr>
        <p:spPr>
          <a:xfrm>
            <a:off x="1681200" y="371304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3"/>
          <p:cNvSpPr/>
          <p:nvPr/>
        </p:nvSpPr>
        <p:spPr>
          <a:xfrm>
            <a:off x="2124000" y="3714840"/>
            <a:ext cx="7020000" cy="493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</a:rPr>
              <a:t>https://www.freeppt7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/>
          <p:cNvSpPr/>
          <p:nvPr/>
        </p:nvSpPr>
        <p:spPr>
          <a:xfrm>
            <a:off x="0" y="313992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Best PPT templates for free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角三角形 5"/>
          <p:cNvSpPr/>
          <p:nvPr/>
        </p:nvSpPr>
        <p:spPr>
          <a:xfrm>
            <a:off x="6983280" y="3137040"/>
            <a:ext cx="6415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1982880" y="3797280"/>
            <a:ext cx="51782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4" descr="logo"/>
          <p:cNvPicPr/>
          <p:nvPr/>
        </p:nvPicPr>
        <p:blipFill>
          <a:blip r:embed="rId1"/>
          <a:stretch/>
        </p:blipFill>
        <p:spPr>
          <a:xfrm>
            <a:off x="2490840" y="1490760"/>
            <a:ext cx="4162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6:34:11Z</dcterms:created>
  <dc:creator>QC0506001</dc:creator>
  <dc:description/>
  <dc:language>en-US</dc:language>
  <cp:lastModifiedBy>kwl6163com</cp:lastModifiedBy>
  <dcterms:modified xsi:type="dcterms:W3CDTF">2018-05-22T12:22:45Z</dcterms:modified>
  <cp:revision>8</cp:revision>
  <dc:subject/>
  <dc:title>FIGHTER PILOT F-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